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86E-871E-4D0C-8252-B4191429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FCC-6A54-41B8-A2A1-EDAE4716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0530D-6CD8-4D82-8008-5DB80D8E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4CC68-ADA5-45A6-B324-0421ED4B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3318B-46B9-474A-81DA-62660CDB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7E29E-64A2-460C-BC54-4728B5F3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6F306-8D64-4AE9-BA6B-7B3DCF24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EB15D-07B8-47A1-ACFD-F4A2D4FF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6B3B4-2794-4614-8106-6591269D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92234-8B28-4E7A-9BEC-369DF364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D660D-BE63-4671-9AD8-E0AA3DAA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F9E-BEF8-4B48-BE83-532C188D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4AB-34BC-4328-B110-308782A7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B130-1585-4209-8A39-511B9616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144B-2B3C-4A79-A701-47225947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8B57-CE17-4B25-8DAD-7AEB89F1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9B27-C305-4B2B-B19C-CB28EF2D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E38B-6779-4097-BA28-3E277577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9600-8DA0-45AC-8B2D-B71429E2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96E2-17CC-4B00-AFEA-6B6EBF6E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A3B-2841-4875-84E6-4DFDC5D9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F2D4-1D15-4C3F-A54F-2C29F585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93C4-349F-46F5-AAE3-B63E92A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748A-B3FA-4992-BC71-3B93F26C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04B2-7675-4EE6-A40E-0F09D847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E66E-8CBF-428F-9D1F-28CD5F1E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8B79F-C815-485A-B701-BCAA2E4C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533A-D7DF-495F-9244-6C338B40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F484-658C-4EE2-95D2-D97931D4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60F60-78FD-4167-9F95-456E7FCF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552CB-F416-4E25-AF2F-82D3C02E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4A5-A81C-4489-AF6A-DA0CC942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E8AEE-884C-4A8F-B670-D94764B1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7721B-E685-4821-A0F6-14A488BB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563F-DE52-4A5F-BD9B-1E99A06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476E6-CBF7-4734-9FB8-1F7F6B45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210E-2B39-4C24-ABB5-0F2F4429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F94A-11E3-4810-BB10-4D93ED10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AD77-8057-4EAD-B2DA-6A2733F3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D11EC-D53D-4EF8-A7EB-24AF0F39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E5210-DEAB-4EC8-AA43-04E9AAE6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826B8-0B86-440B-977E-3552B73C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502-B9C7-4872-B120-5F08253C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00BA7-068B-4D9B-AED8-6D3F2F3C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495F9-8416-4FC0-B83E-CEABD82E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F391B-51AD-48D7-8B2A-2C2204C4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16CF-EABC-486F-8679-285C852E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13DF-4198-4375-9E89-CD44415E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38343-3B45-4CE6-82B4-47677C31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CFF0D-EE0B-41D1-9975-CAA666D3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BEE38-DC18-4904-8808-7040E2E4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48D85-DA71-48B5-B9BF-3EF76566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67D42-9672-48CB-8BC8-416919A6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065-E996-4B71-BFB0-856FD376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FB7C-CF9C-4BE7-AE93-67C8A4F2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F9341-B4CD-46EE-A79B-3F1AB2F3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81EE2-4E17-4747-A999-0F9BDF8D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7485D-CF96-4CF6-AE93-0C3EEE5C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ED247-802A-4828-A44E-198C450A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F03A2-4F1F-453A-81AE-9A9E23C9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DA342-CF5F-48E9-ADAF-9FD2B588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11E93-6F33-4E8B-92F3-E81AFEFB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619C-429A-4A18-BC1F-F350CEFF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E7CA0-1745-4381-A1A8-A836BB17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198-E51D-4E93-AE83-8F65CF5E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A6440-EC41-46C9-BF3A-C3BC454D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8ADA7-00A8-4AFE-A0BB-DDCCD8BB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9D854-B1BE-4C61-9659-1DDB6191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23B23-2EED-4AF6-BAA0-975B6742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929F3-10C9-450E-A78F-E2609589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92806-0210-4A38-BE02-A33C275D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95895-BFCF-459F-BAB6-12B3ECC9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DD4C1-70F2-4582-A7F7-15ADD392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17749-3B64-4250-A760-510ADA61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1BEE6-62DA-47DF-BBD0-603DA2F1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6BA-9F1E-4772-9A69-E689B968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432C2-6537-4DB2-A392-47BA2339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74B81-60D5-45BE-B7F1-F6D6097C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3E25A-AF91-4BE4-9052-E11DA913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545CB-E4F2-4C56-8B4C-48CFF8D7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61267-8E7F-4137-9762-29A999DF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64C84-E788-4021-B444-4016A900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DA905-485C-48D7-AA02-3B407475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BB711-202A-490D-85AA-F3A8D922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261B5-9EEA-4C34-9721-D680D575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839C6-9624-46B3-A842-9583B287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824-FBEE-432A-8794-E06E27EC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69E01-1ECD-4543-8119-0E6DD71B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DE9E2-B995-4962-9844-35579924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C3877-1B1D-470C-861D-FCCAF3D4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CA001-A152-4EB8-A76F-7095219F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DF1A1-EEBF-437B-AE35-381A72B2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D36B2-86CD-4DA6-BE6B-203E9079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B122F-FB58-4585-8147-52EFC1D0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DB7EE-FE44-4355-A1EF-8F423A62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0A5A9-FF76-4A61-B7F9-ECD7C324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F41EE-CBB8-4852-8284-EC07F9FA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3F5-7B52-490D-8946-8E54F345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107B1-A163-4E2C-B0C3-066EDDDD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B04FA-7763-47E2-B51F-BF31F9C0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7CAA7-C6E1-4492-89B9-CFA64F07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5A824-17F6-4F43-8098-B4C91867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43690-F7C0-4529-85FF-F47B8010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12B3F-3596-4DBE-849C-31C0DB3C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6620E-39B0-40A2-B16D-FEF0232B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60A2B-E1F9-4EDB-91D8-E749EF7D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95136-4BAB-4CA2-BACF-AAFE4BD4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DA1A5-DF19-487C-9277-54BBD878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8DF4-4B1D-4152-AA49-A568F34CB3D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73BB-BA0B-42C0-BF2A-1E5A73629EB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A1BE-5F99-487A-AC81-E36F72F4954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7E8D-3D65-43DE-80AA-FD05109C684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34A6-4A22-4677-B3A8-9ECB200B8C6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9A11-9D39-454E-8FA0-D95545C4A43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31C4-161B-49C8-B338-EC1050DFD30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9681-4BA8-41AB-962C-D02AE9381A4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642C-6D35-427F-9E70-6E8C54F48FE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0" name="Picture 2" descr="C:\Documents and Settings\LL4.URI\Local Settings\Temporary Internet Files\Content.IE5\0HQHO5IR\2275356977_5ee26d83f8_o[1].jpg"/>
          <p:cNvPicPr/>
          <p:nvPr/>
        </p:nvPicPr>
        <p:blipFill>
          <a:blip r:embed="rId1"/>
          <a:stretch/>
        </p:blipFill>
        <p:spPr>
          <a:xfrm>
            <a:off x="205740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the Chinese basketball player first came to America, he could not speak English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f he went to a restaurant, what would he need in order to get by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hinese           =        Bases in DN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terpreter       =        RNA Polymerase (converts information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                                      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to m RNA –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ranscription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nglish             =        Bases in RN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aiter               =        transfer RNA (receives information from m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                                       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NA and delivers amino acid–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ranslation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)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od                  =        Amino Aci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8:03:22Z</dcterms:created>
  <dc:creator>LL4</dc:creator>
  <dc:description/>
  <dc:language>en-US</dc:language>
  <cp:lastModifiedBy>LL4</cp:lastModifiedBy>
  <dcterms:modified xsi:type="dcterms:W3CDTF">2009-12-19T18:29:37Z</dcterms:modified>
  <cp:revision>3</cp:revision>
  <dc:subject/>
  <dc:title>Slide 1</dc:title>
</cp:coreProperties>
</file>